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4.jpeg" ContentType="image/jpeg"/>
  <Override PartName="/ppt/media/image2.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048A1-4632-473F-B3CE-00F39DF7D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8CB43-3F7B-4C07-97B1-E8AA019E9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F5531-44F0-45F7-93E7-04E7DE93F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B8D4A-E30E-48B1-83E4-B8C815C6A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85360-C76B-4381-A10E-FBAF3E94D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B62EC-2109-4265-8498-D93147FB9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64C3D-EF12-48AF-99A0-633FE2D2A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17989-8792-4E60-B621-3FA96992E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73978-8FFC-496D-82E4-E735BB67D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349D-B7E0-4910-A7EA-B75899AE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2720-230E-45C6-B7F5-CE3C7D4B2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982CC-236E-457E-9108-BDB27D894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7F59-6621-495C-9025-C1DF23EE5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http://www.renewableenergyworld.com/rea/news/article/2005/05/portugal-to-host-worlds-first-wave-farm-30275"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52280" y="152280"/>
            <a:ext cx="2971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WAVE ENERGY</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42" name=""/>
          <p:cNvSpPr/>
          <p:nvPr/>
        </p:nvSpPr>
        <p:spPr>
          <a:xfrm>
            <a:off x="6858000" y="61722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Ian &amp; Cor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2895480" cy="2708280"/>
          </a:xfrm>
          <a:prstGeom prst="rect">
            <a:avLst/>
          </a:prstGeom>
          <a:ln w="0">
            <a:noFill/>
          </a:ln>
        </p:spPr>
      </p:pic>
      <p:pic>
        <p:nvPicPr>
          <p:cNvPr id="44" name="" descr=""/>
          <p:cNvPicPr/>
          <p:nvPr/>
        </p:nvPicPr>
        <p:blipFill>
          <a:blip r:embed="rId3"/>
          <a:stretch/>
        </p:blipFill>
        <p:spPr>
          <a:xfrm>
            <a:off x="6019920" y="0"/>
            <a:ext cx="3124080" cy="2343240"/>
          </a:xfrm>
          <a:prstGeom prst="rect">
            <a:avLst/>
          </a:prstGeom>
          <a:ln w="0">
            <a:noFill/>
          </a:ln>
        </p:spPr>
      </p:pic>
      <p:sp>
        <p:nvSpPr>
          <p:cNvPr id="45" name=""/>
          <p:cNvSpPr txBox="1"/>
          <p:nvPr/>
        </p:nvSpPr>
        <p:spPr>
          <a:xfrm>
            <a:off x="3276720" y="304920"/>
            <a:ext cx="228600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uoy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6" name=""/>
          <p:cNvSpPr/>
          <p:nvPr/>
        </p:nvSpPr>
        <p:spPr>
          <a:xfrm>
            <a:off x="-30600" y="4851360"/>
            <a:ext cx="7151400" cy="201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oys are an ocean-sitting objects that are used to indicate signs of incoming wav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wave energy, the buoys are being used to generate the electricity through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of the wave. Moving up and down repeatedly, buoys generate mechan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which is sent through a transmission line to shore, and converted into electric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oys measure to be about 13 feet tall and 52 feet long; with about 12 feet rising abo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cean surface. In the creation of wave energy, they are planted anywhere with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les from the shore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52280" y="4648320"/>
            <a:ext cx="876312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out getting into the technical details, waves enter a concrete capture chamber which is set into an excavated rock face on the island. As water enters and leaves the chamber with the arrival of each new wave, the pressure of the air within the chamber increases and decreases. It is this oscillation of the air pressure within the chamber which draws air in or pushes air out of the chamber passing through the turbine. Whether air is being forced through the turbine, or drawn back into the chamber through the turbine, electricity is generated.</a:t>
            </a:r>
            <a:endParaRPr b="0" lang="en-US" sz="1800" spc="-1" strike="noStrike">
              <a:solidFill>
                <a:srgbClr val="000000"/>
              </a:solidFill>
              <a:latin typeface="Arial"/>
            </a:endParaRPr>
          </a:p>
        </p:txBody>
      </p:sp>
      <p:sp>
        <p:nvSpPr>
          <p:cNvPr id="48" name=""/>
          <p:cNvSpPr txBox="1"/>
          <p:nvPr/>
        </p:nvSpPr>
        <p:spPr>
          <a:xfrm>
            <a:off x="6705720" y="152280"/>
            <a:ext cx="2286000" cy="838440"/>
          </a:xfrm>
          <a:prstGeom prst="rect">
            <a:avLst/>
          </a:prstGeom>
        </p:spPr>
        <p:txBody>
          <a:bodyPr wrap="none" lIns="90000" rIns="90000" tIns="46800" bIns="46800" anchor="t" anchorCtr="1">
            <a:prstTxWarp prst="textPlain">
              <a:avLst>
                <a:gd name="adj" fmla="val 45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Turbin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048120" y="304920"/>
            <a:ext cx="29336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dvantages</a:t>
            </a:r>
            <a:endParaRPr b="0" lang="en-US" sz="1800" spc="1" strike="noStrike">
              <a:ln w="9360">
                <a:solidFill>
                  <a:srgbClr val="000000"/>
                </a:solidFill>
                <a:miter/>
              </a:ln>
              <a:solidFill>
                <a:srgbClr val="000000"/>
              </a:solidFill>
              <a:latin typeface="Arial Black"/>
              <a:ea typeface="Arial Black"/>
            </a:endParaRPr>
          </a:p>
        </p:txBody>
      </p:sp>
      <p:sp>
        <p:nvSpPr>
          <p:cNvPr id="50" name=""/>
          <p:cNvSpPr/>
          <p:nvPr/>
        </p:nvSpPr>
        <p:spPr>
          <a:xfrm>
            <a:off x="228600" y="4114800"/>
            <a:ext cx="7178760" cy="2527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n addition to wave energy being clean and renewable, its devices act as a barrier, protecting buildings near the shoreline from wa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t is predictable by way of satelli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Majority of the world’s population lives within 30km from the coa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Historically based – waves are stronger in the winter, which would fulfill the energy requirements needed for heat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rot="1360800">
            <a:off x="2971800" y="762120"/>
            <a:ext cx="2630520" cy="777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sadvantages</a:t>
            </a:r>
            <a:endParaRPr b="0" lang="en-US" sz="1800" spc="1" strike="noStrike">
              <a:ln w="9360">
                <a:solidFill>
                  <a:srgbClr val="000000"/>
                </a:solidFill>
                <a:miter/>
              </a:ln>
              <a:solidFill>
                <a:srgbClr val="ffffff"/>
              </a:solidFill>
              <a:latin typeface="Arial Black"/>
              <a:ea typeface="Arial Black"/>
            </a:endParaRPr>
          </a:p>
        </p:txBody>
      </p:sp>
      <p:sp>
        <p:nvSpPr>
          <p:cNvPr id="52" name=""/>
          <p:cNvSpPr/>
          <p:nvPr/>
        </p:nvSpPr>
        <p:spPr>
          <a:xfrm>
            <a:off x="1066680" y="4038840"/>
            <a:ext cx="7010640" cy="25628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ends on the waves - sometimes you'll get loads of energy, sometimes almost no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s a suitable site, where waves are consistently str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esigns are noisy. But then again, so are waves, so any noise is unlikely to be a problem.</a:t>
            </a:r>
            <a:br>
              <a:rPr sz="1800"/>
            </a:br>
            <a:r>
              <a:rPr b="0" lang="en-US" sz="1800" spc="-1" strike="noStrike">
                <a:solidFill>
                  <a:srgbClr val="ffffff"/>
                </a:solidFill>
                <a:latin typeface="Arial"/>
              </a:rPr>
              <a:t> </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be able to withstand very rough wea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1295280" y="533520"/>
            <a:ext cx="59724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How Waves are Created</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54" name=""/>
          <p:cNvSpPr/>
          <p:nvPr/>
        </p:nvSpPr>
        <p:spPr>
          <a:xfrm>
            <a:off x="1203480" y="4303800"/>
            <a:ext cx="7407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ves are formed through the variations in air pressure above the surface of the water forcing wind pressure downward upon the body of wa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pen-ocean waves, swells, are generated by the energy of storms reaching thousands of miles away. As the friction of the ocean floor occurs throughout the waves, the swell begins to slow. The halt in wave speed results in the steepness of a 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5943600" y="152280"/>
            <a:ext cx="3038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Wave Farm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56" name=""/>
          <p:cNvSpPr/>
          <p:nvPr/>
        </p:nvSpPr>
        <p:spPr>
          <a:xfrm>
            <a:off x="990720" y="52578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ugal Wave Farm was the worlds first wave farm.  It is located 5 km off the coast of Portugal’s northern coast, near to Povoa de Varzim.  It is expected to be able to power up 1500 households by itself.</a:t>
            </a:r>
            <a:endParaRPr b="0" lang="en-US" sz="1800" spc="-1" strike="noStrike">
              <a:solidFill>
                <a:srgbClr val="000000"/>
              </a:solidFill>
              <a:latin typeface="Arial"/>
            </a:endParaRPr>
          </a:p>
        </p:txBody>
      </p:sp>
      <p:pic>
        <p:nvPicPr>
          <p:cNvPr id="57" name="" descr=""/>
          <p:cNvPicPr/>
          <p:nvPr/>
        </p:nvPicPr>
        <p:blipFill>
          <a:blip r:embed="rId4"/>
          <a:stretch/>
        </p:blipFill>
        <p:spPr>
          <a:xfrm>
            <a:off x="0" y="0"/>
            <a:ext cx="3505320" cy="312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914400" y="533520"/>
            <a:ext cx="1828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ourc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9" name=""/>
          <p:cNvSpPr/>
          <p:nvPr/>
        </p:nvSpPr>
        <p:spPr>
          <a:xfrm rot="21421800">
            <a:off x="3262320" y="45756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renewableenergyworld.com/rea/news/article/2005/05/portugal-to-host-worlds-first-wave-farm-30275</a:t>
            </a:r>
            <a:endParaRPr b="0" lang="en-US" sz="1800" spc="-1" strike="noStrike">
              <a:solidFill>
                <a:srgbClr val="000000"/>
              </a:solidFill>
              <a:latin typeface="Arial"/>
            </a:endParaRPr>
          </a:p>
        </p:txBody>
      </p:sp>
      <p:sp>
        <p:nvSpPr>
          <p:cNvPr id="60" name=""/>
          <p:cNvSpPr/>
          <p:nvPr/>
        </p:nvSpPr>
        <p:spPr>
          <a:xfrm rot="327000">
            <a:off x="3047760" y="1981080"/>
            <a:ext cx="49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ocsenergy.anl.gov/guide/wave/index.cfm</a:t>
            </a:r>
            <a:endParaRPr b="0" lang="en-US" sz="1800" spc="-1" strike="noStrike">
              <a:solidFill>
                <a:srgbClr val="000000"/>
              </a:solidFill>
              <a:latin typeface="Arial"/>
            </a:endParaRPr>
          </a:p>
        </p:txBody>
      </p:sp>
      <p:sp>
        <p:nvSpPr>
          <p:cNvPr id="61" name=""/>
          <p:cNvSpPr/>
          <p:nvPr/>
        </p:nvSpPr>
        <p:spPr>
          <a:xfrm rot="21153600">
            <a:off x="4680" y="3123720"/>
            <a:ext cx="588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is.natsci.csulb.edu/bperry/socalweb/forwav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3:30:40Z</dcterms:created>
  <dc:creator>sasd</dc:creator>
  <dc:description/>
  <dc:language>en-US</dc:language>
  <cp:lastModifiedBy>SASD</cp:lastModifiedBy>
  <dcterms:modified xsi:type="dcterms:W3CDTF">2009-04-27T12:57:06Z</dcterms:modified>
  <cp:revision>11</cp:revision>
  <dc:subject/>
  <dc:title>Slide 1</dc:title>
</cp:coreProperties>
</file>